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08BF6-8724-4EE8-8A68-821C3246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70CEE-1103-4ED5-ADEA-7CE7C97E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246F5-1C3B-4737-9468-97176053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F411C-E8F8-4F8A-8842-59ADF583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8BAA-D2A1-4658-A8A8-4C99741B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21FD-6083-485D-BA7B-F2F9FF951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44DB-623A-4C8F-B2BF-BE42EB79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B77E-BD26-49C9-B46F-B410F479E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BB77-E082-40E3-8ACE-C1686220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63103-71A7-4F00-A284-8B0F9F1E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AF71-FBD3-4C5F-88CE-D9DA0538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612F-1283-46DC-8BDA-D4BD0882A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2C52-D045-4E48-B918-B910CFA8C9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Gas Stoichiometry</a:t>
            </a:r>
            <a:br>
              <a:rPr sz="3600"/>
            </a:br>
            <a:r>
              <a:rPr b="1" lang="en-US" sz="3600" spc="-1" strike="noStrike">
                <a:solidFill>
                  <a:srgbClr val="dddddd"/>
                </a:solidFill>
                <a:latin typeface="Arial"/>
              </a:rPr>
              <a:t> Collection of Oxygen Gas </a:t>
            </a:r>
            <a:br>
              <a:rPr sz="3600"/>
            </a:b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0" y="4190760"/>
            <a:ext cx="9144000" cy="685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ClO (aq)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aq)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 (l) + NaCl (aq) + 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g)</a:t>
            </a:r>
            <a:endParaRPr b="0" lang="en-US" sz="2800" spc="-1" strike="noStrike">
              <a:solidFill>
                <a:srgbClr val="ffffff"/>
              </a:solidFill>
              <a:latin typeface="Times New Roman"/>
            </a:endParaRPr>
          </a:p>
        </p:txBody>
      </p:sp>
      <p:sp>
        <p:nvSpPr>
          <p:cNvPr id="43" name=""/>
          <p:cNvSpPr/>
          <p:nvPr/>
        </p:nvSpPr>
        <p:spPr>
          <a:xfrm>
            <a:off x="1371600" y="57150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hat is the purp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0 ml graduated cylin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ber stopp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as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mall test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t>
            </a:r>
            <a:r>
              <a:rPr b="0" lang="en-US" sz="3600" spc="-1" strike="noStrike" baseline="-25000">
                <a:solidFill>
                  <a:srgbClr val="ffffff"/>
                </a:solidFill>
                <a:latin typeface="Times New Roman"/>
              </a:rPr>
              <a:t>2</a:t>
            </a:r>
            <a:r>
              <a:rPr b="0" lang="en-US" sz="3600" spc="-1" strike="noStrike">
                <a:solidFill>
                  <a:srgbClr val="ffffff"/>
                </a:solidFill>
                <a:latin typeface="Times New Roman"/>
              </a:rPr>
              <a:t>O</a:t>
            </a:r>
            <a:r>
              <a:rPr b="0" lang="en-US" sz="3600" spc="-1" strike="noStrike" baseline="-25000">
                <a:solidFill>
                  <a:srgbClr val="ffffff"/>
                </a:solidFill>
                <a:latin typeface="Times New Roman"/>
              </a:rPr>
              <a:t>2</a:t>
            </a:r>
            <a:endParaRPr b="0" lang="en-US" sz="3600" spc="-1" strike="noStrike">
              <a:solidFill>
                <a:srgbClr val="ffffff"/>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stand</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tube clamp</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50 ml Erlenmeyer flask</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tub</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ClO</a:t>
            </a:r>
            <a:endParaRPr b="0" lang="en-US" sz="3600" spc="-1" strike="noStrike">
              <a:solidFill>
                <a:srgbClr val="ffffff"/>
              </a:solidFill>
              <a:latin typeface="Times New Roman"/>
            </a:endParaRPr>
          </a:p>
          <a:p>
            <a:pPr marL="312120" indent="-3121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lance </a:t>
            </a:r>
            <a:endParaRPr b="0" lang="en-US" sz="3600" spc="-1" strike="noStrike">
              <a:solidFill>
                <a:srgbClr val="ffffff"/>
              </a:solidFill>
              <a:latin typeface="Times New Roman"/>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a ring stand and test tube clamp.  Fill the tub with water.  Fill the graduated cylinder with water.  Invert and clamp the graduated cylinder to the test tube clamp.  Make sure there is no air in the graduated cylinder</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ass 3.00 – 5.00 grams of NaClO in a 250 ml Erlenmeyer flask.  Record</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2)</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Mass 3.00 – 5.00 grams of H</a:t>
            </a:r>
            <a:r>
              <a:rPr b="0" lang="en-US" sz="3200" spc="-1" strike="noStrike" baseline="-25000">
                <a:solidFill>
                  <a:srgbClr val="ffffff"/>
                </a:solidFill>
                <a:latin typeface="Times New Roman"/>
              </a:rPr>
              <a:t>2</a:t>
            </a:r>
            <a:r>
              <a:rPr b="0" lang="en-US" sz="3200" spc="-1" strike="noStrike">
                <a:solidFill>
                  <a:srgbClr val="ffffff"/>
                </a:solidFill>
                <a:latin typeface="Times New Roman"/>
              </a:rPr>
              <a:t>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in a test tube.  Record</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fully lower the test tube of hydrogen peroxide into the Erlenmeyer flask.  Don’t let it fall.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the rubber stopper on the Erlenmeyer flask and place the free end of the gas tube into the opening of the graduated cylinder.</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3)</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Gently tip the test tube over to start the chemical reaction.</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Observe the gas bubbles in the graduated cylinder.  Record the volume of gas produced.  Record the atmospheric pressure and the room temperatur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Repeat steps 1-7.  Record as trial 2.</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Data Table</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55" name=""/>
          <p:cNvGraphicFramePr/>
          <p:nvPr/>
        </p:nvGraphicFramePr>
        <p:xfrm>
          <a:off x="1523880" y="1066680"/>
          <a:ext cx="6096240" cy="5486400"/>
        </p:xfrm>
        <a:graphic>
          <a:graphicData uri="http://schemas.openxmlformats.org/drawingml/2006/table">
            <a:tbl>
              <a:tblPr/>
              <a:tblGrid>
                <a:gridCol w="2286000"/>
                <a:gridCol w="1778040"/>
                <a:gridCol w="2032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6% NaClO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3% 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O</a:t>
                      </a:r>
                      <a:r>
                        <a:rPr b="1" lang="en-US" sz="3200" spc="-1" strike="noStrike" baseline="-25000">
                          <a:solidFill>
                            <a:srgbClr val="ffffff"/>
                          </a:solidFill>
                          <a:latin typeface="Times New Roman"/>
                        </a:rPr>
                        <a:t>2</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lume of O</a:t>
                      </a:r>
                      <a:r>
                        <a:rPr b="1" lang="en-US" sz="3200" spc="-1" strike="noStrike" baseline="-25000">
                          <a:solidFill>
                            <a:srgbClr val="ffffff"/>
                          </a:solidFill>
                          <a:latin typeface="Times New Roman"/>
                        </a:rPr>
                        <a:t>2</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40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sure</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eratur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5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 1</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mass of bleach, NaClO (6%)</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mass of hydrogen peroxide,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3%)</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Find the moles of NaClO and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Find the limiting reactant.</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Find the volume of oxygen gas that could form from the limiting reactant (theoretical yield). </a:t>
            </a:r>
            <a:r>
              <a:rPr b="1" i="1" lang="en-US" sz="2800" spc="-1" strike="noStrike">
                <a:solidFill>
                  <a:srgbClr val="ffffff"/>
                </a:solidFill>
                <a:latin typeface="Times New Roman"/>
              </a:rPr>
              <a:t>Subtract the water vapor pressure!</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Find the actual yield of oxygen (mL or L) produced by using your data tabl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Find the percent yield.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Repeat calculations 1-7 for all trials and find the average percent yield for all of your trials.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any mistakes or events that occurred during the lab, that may have an impact on your results.  Explain how they might affect your result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would you judge your lab resul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1-26T21:09:15Z</dcterms:modified>
  <cp:revision>23</cp:revision>
  <dc:subject/>
  <dc:title>lithium oxide</dc:title>
</cp:coreProperties>
</file>